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C6D-08C0-45D4-B4E3-76F54C06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CED-9297-4173-A09F-026EBA9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F0F-85A9-4B8D-9CC7-90A8AC55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177-44B9-4BEA-9849-831057BF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AF9-DA9E-425D-AFC6-31825A2D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175-281F-494A-B276-13CC2CC0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4AF-1397-4139-B206-28E11DE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712-878C-47EA-A588-AAB05CE2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30F-0940-4318-9545-483AE4A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0C0-7F92-434A-88D7-86AD306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9D1-0DBD-4D99-9CDB-696CD0B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8C3-9622-47C8-B471-9055C41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D3F-6298-4581-9AE3-AEE3970F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utosubmit.ic3.cat/" TargetMode="External"/><Relationship Id="rId2" Type="http://schemas.openxmlformats.org/officeDocument/2006/relationships/hyperlink" Target="http://visitor:8000/autosubmit_v2/default/index" TargetMode="External"/><Relationship Id="rId3" Type="http://schemas.openxmlformats.org/officeDocument/2006/relationships/hyperlink" Target="http://ic3.cat/wikicfu/index.php/Tools/Postprocessing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c3.cat/wikicfu/index.php/Tools/Diagnostic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5920"/>
            <a:ext cx="424836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I want to run a new experi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154080"/>
            <a:ext cx="4356360" cy="188280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submit is designed to do so. I can find its documentation there: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utosubmit.ic3.ca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know more about the models I can run and where, I have a look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133720"/>
            <a:ext cx="4032360" cy="21571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experiments run by CFU members, I can have a look t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sitor:8000/autosubmit_v2/default/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data downloaded by the CFU members, I can have a look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Data/Experiment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692280"/>
            <a:ext cx="647640" cy="3682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052640"/>
            <a:ext cx="3024360" cy="6426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, I’d like to start from the available experi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365200">
            <a:off x="1692000" y="54900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062400">
            <a:off x="2915280" y="54828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765000"/>
            <a:ext cx="360360" cy="287640"/>
          </a:xfrm>
          <a:prstGeom prst="rightArrow">
            <a:avLst>
              <a:gd name="adj1" fmla="val 50000"/>
              <a:gd name="adj2" fmla="val 313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773360"/>
            <a:ext cx="360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492280"/>
            <a:ext cx="3816360" cy="17398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w data of my experiment or of the experiment run by another CFU member are now available there:  /cfunas/exp/ecearth/expid /cfunas/exp/nemo/expid                How do I process the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35772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4657680"/>
            <a:ext cx="403380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ools described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c3.cat/wikicfu/index.php/Tools/Post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format those data into the common format used in CF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2133720"/>
            <a:ext cx="360360" cy="214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4365720"/>
            <a:ext cx="36036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6381720"/>
            <a:ext cx="676764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 I perform some diagnostics on those formatted dat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926600">
            <a:off x="2176560" y="4723920"/>
            <a:ext cx="360360" cy="144144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637000"/>
            <a:ext cx="36036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859000">
            <a:off x="6408360" y="60069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32000" y="189000"/>
            <a:ext cx="6767280" cy="36828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do I perform some diagnostics on those formatted data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515800">
            <a:off x="3131640" y="76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341360"/>
            <a:ext cx="3672000" cy="173988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ute prediction scores, I have a look t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c3.cat/wikicfu/index.php/Tools/Diagno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 run plot_timeseries.R and plot_maps.R in the same directory on my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1341360"/>
            <a:ext cx="3456000" cy="14655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mpute some variability modes or indices, I can use the tools described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Eigen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596000">
            <a:off x="5368680" y="783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3865680"/>
            <a:ext cx="345600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terpolate data, I can use the tools described 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3284640"/>
            <a:ext cx="3313080" cy="119124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erform regression, I can use the tools described 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4888080"/>
            <a:ext cx="3671640" cy="146556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erform some spatial smoothing, I can use the tools described the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3.cat/wikicfu/index.php/Tools/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4:27:15Z</dcterms:created>
  <dc:creator>IC3</dc:creator>
  <dc:description/>
  <dc:language>en-US</dc:language>
  <cp:lastModifiedBy>IC3</cp:lastModifiedBy>
  <dcterms:modified xsi:type="dcterms:W3CDTF">2013-08-14T17:28:22Z</dcterms:modified>
  <cp:revision>21</cp:revision>
  <dc:subject/>
  <dc:title>Diapositiva 1</dc:title>
</cp:coreProperties>
</file>